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87E0-3980-49FC-90FE-28750976B4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35AB-4A72-4D21-AF80-041D18485E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856-6C6B-4E60-AF9D-E21301CD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E96-88F7-41DD-B52B-F3F7E49E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E5A-E620-4A6D-9900-3EE093D7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462-BCC6-4D8E-B618-298087D9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26C1-92C1-44C9-A6E0-E04E6931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FC61-DD75-41D9-A8AC-AC0DDE55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F5EF-B782-4EBB-9B0C-FA2EFD81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A43B-B818-4EF6-AFEB-6C1E449F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25DF-120F-4896-B3E6-48EEC300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ED1E-2483-41B8-84EF-205616AE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7FBE-734F-4652-8B8A-62E8F26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791-3016-4B14-AD7D-4021661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A513-397A-4F72-8E2C-6742B06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8B30-3973-4101-8F3B-42408DC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CB0-F7F9-42FB-8E3A-0D4F7ED8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3BAA-B9E1-482B-A8DB-D3DDB059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528E-9F99-40A1-AC57-4D390716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DAC-3FDB-4499-9D6A-A61B3EC6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C7F-2548-4069-BFD6-4B1027DA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15E-841C-4654-B3C2-BD7A1624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AA3-C9F3-4EAD-9A2C-D4EDEC0A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DEF-C1BB-4FEA-B8C4-F2F1101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5D8-EC98-44EB-B7AE-1824127C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DEF-5B3F-4321-BDB1-25AE0BC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D350-7C2C-4661-8094-F86F07CA89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E8FC-FE48-4842-8FAD-653400DEE0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User</cp:lastModifiedBy>
  <dcterms:modified xsi:type="dcterms:W3CDTF">2018-11-22T10:03:28Z</dcterms:modified>
  <cp:revision>118</cp:revision>
  <dc:subject/>
  <dc:title>ДОРОЖНЫЕ ЗНАКИ</dc:title>
</cp:coreProperties>
</file>